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eestyle Scrip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12A1-EE97-4988-8488-F369947C3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0949-250C-4A50-AB86-83EB59BECB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C681-FB89-43F7-9DEF-FF201142C6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0972-B124-4344-A2D0-75C3975E94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D0B9-85C3-41FF-9A67-1C242F1C67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3B6C-A520-4297-9DF8-B576E669BF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oatrial node – valve of right at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rial Ventricular – valves prevent backflow, also prevent valves from inver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2C84-D665-40BC-A5FF-A8A1A3250E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EFD9-E704-40E4-AF0B-F06EEFBC27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AA29-5CCA-4CB2-B836-783E642FBB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B7E8-37FF-4DC9-85D8-9C18FF613E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2018-37F0-4D94-9A43-2DF0A4044E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1968-ADB5-4B41-A366-253C06E9C8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63A1-AD96-417C-BB10-E50E94373D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606B-600B-4001-87E4-3E1504C474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9EF3-E06E-4F7A-AD16-9536EDB854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7765-6EE4-40A0-B4DF-564D0D67E0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286D-A2F3-4BE8-8738-39A1860B86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762D-417D-43D0-8A6E-B554AB97E6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0F98-364C-4637-83CA-6973FABC01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57FC-CEA8-4F37-8A7D-980B435497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D9A-25DD-4567-8CE9-A8D10CFF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C48-01A1-43E0-871F-AA1B556D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021-F447-4AC3-AED0-39CB4EEA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5BD-7E05-4671-AD28-CAA9BC7B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BF7-F83A-4103-8BA5-9F318885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C51-C685-4356-A14F-C2120A48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ADEB-6BB1-4F54-A39B-0B3FA5CF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7B1-C418-4A29-A486-B8E89780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36B-C8F5-4895-959E-D75F106F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208-24A2-4AE4-905B-132573D0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59A-528D-4E82-8230-BAC96565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9F2-3BF0-49B3-B13A-478496F5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eestyle Scrip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eestyle Scrip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eestyle Scrip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eestyle Scrip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eestyle Scrip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eestyle Scrip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eestyle Scrip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eestyle Scrip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1BAF-2AC3-4DEC-9F0F-D0CE47B296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deo.about.com/heartdisease/How-the-Valves-Work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Freestyle Script"/>
              </a:rPr>
              <a:t>The Circulatory System</a:t>
            </a:r>
            <a:endParaRPr b="0" lang="en-US" sz="138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360" y="540972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eestyle Script"/>
              </a:rPr>
              <a:t>Mr. O’Connor</a:t>
            </a:r>
            <a:endParaRPr b="0" lang="en-US" sz="1800" spc="-1" strike="noStrike">
              <a:solidFill>
                <a:srgbClr val="ffffff"/>
              </a:solidFill>
              <a:latin typeface="Freestyle Scrip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eestyle Script"/>
              </a:rPr>
              <a:t>Thomas Jefferson High School</a:t>
            </a:r>
            <a:endParaRPr b="0" lang="en-US" sz="1800" spc="-1" strike="noStrike">
              <a:solidFill>
                <a:srgbClr val="ffffff"/>
              </a:solidFill>
              <a:latin typeface="Freestyle Scrip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eestyle Script"/>
              </a:rPr>
              <a:t>Cedar Rapids Community School District</a:t>
            </a:r>
            <a:endParaRPr b="0" lang="en-US" sz="1800" spc="-1" strike="noStrike">
              <a:solidFill>
                <a:srgbClr val="ffffff"/>
              </a:solidFill>
              <a:latin typeface="Freestyle Scrip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eestyle Script"/>
              </a:rPr>
              <a:t>Winter Term Biology II</a:t>
            </a:r>
            <a:endParaRPr b="0" lang="en-US" sz="1800" spc="-1" strike="noStrike">
              <a:solidFill>
                <a:srgbClr val="ffffff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Freestyle Script"/>
              </a:rPr>
              <a:t>Veins</a:t>
            </a:r>
            <a:endParaRPr b="0" lang="en-US" sz="115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52120"/>
            <a:ext cx="32004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ame 3 layers as arteries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inner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re expandable.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enous Valve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74" name="Picture 4" descr="artery-vein"/>
          <p:cNvPicPr/>
          <p:nvPr/>
        </p:nvPicPr>
        <p:blipFill>
          <a:blip r:embed="rId2"/>
          <a:srcRect l="11110" t="0" r="4165" b="14667"/>
          <a:stretch/>
        </p:blipFill>
        <p:spPr>
          <a:xfrm>
            <a:off x="3733920" y="2057400"/>
            <a:ext cx="495288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reestyle Script"/>
              </a:rPr>
              <a:t>Varicose Veins</a:t>
            </a:r>
            <a:endParaRPr b="0" lang="en-US" sz="88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reak down of the venous valve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lood begins to pool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retches the vein walls and pushes them to the surface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77" name="Picture 5" descr="Varicose-Veins-legsas"/>
          <p:cNvPicPr/>
          <p:nvPr/>
        </p:nvPicPr>
        <p:blipFill>
          <a:blip r:embed="rId2"/>
          <a:stretch/>
        </p:blipFill>
        <p:spPr>
          <a:xfrm>
            <a:off x="4114800" y="1600200"/>
            <a:ext cx="47624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Freestyle Script"/>
              </a:rPr>
              <a:t>The Heart</a:t>
            </a:r>
            <a:endParaRPr b="0" lang="en-US" sz="138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79" name="Picture 15" descr="3"/>
          <p:cNvPicPr/>
          <p:nvPr/>
        </p:nvPicPr>
        <p:blipFill>
          <a:blip r:embed="rId2"/>
          <a:srcRect l="0" t="12480" r="0" b="2463"/>
          <a:stretch/>
        </p:blipFill>
        <p:spPr>
          <a:xfrm>
            <a:off x="2712960" y="1303200"/>
            <a:ext cx="3916440" cy="4792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knife through heart"/>
          <p:cNvPicPr/>
          <p:nvPr/>
        </p:nvPicPr>
        <p:blipFill>
          <a:blip r:embed="rId3"/>
          <a:srcRect l="50292" t="0" r="0" b="0"/>
          <a:stretch/>
        </p:blipFill>
        <p:spPr>
          <a:xfrm>
            <a:off x="4724280" y="1855800"/>
            <a:ext cx="2362320" cy="4506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knife through heart"/>
          <p:cNvPicPr/>
          <p:nvPr/>
        </p:nvPicPr>
        <p:blipFill>
          <a:blip r:embed="rId4"/>
          <a:srcRect l="0" t="0" r="49719" b="0"/>
          <a:stretch/>
        </p:blipFill>
        <p:spPr>
          <a:xfrm>
            <a:off x="2362320" y="1906560"/>
            <a:ext cx="23619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eestyle Script"/>
              </a:rPr>
              <a:t>Heart Facts</a:t>
            </a:r>
            <a:endParaRPr b="0" lang="en-US" sz="80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ighs ~ 11 ounces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heart beats 70-80 beats per minute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heart muscle contractions are what push the blood through the chambers and the vessel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involuntary)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rve connections regulate your heart rate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is triggered by your brain and hormones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Your maximum heart rate = 220 beats per minute – your age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reestyle Script"/>
              </a:rPr>
              <a:t>Key Heart Parts</a:t>
            </a:r>
            <a:endParaRPr b="0" lang="en-US" sz="88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trium/atria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entricle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eptum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alve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terie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ein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inoatrial Nod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pacemaker)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trial Ventricular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86" name="Picture 4" descr="Picture1"/>
          <p:cNvPicPr/>
          <p:nvPr/>
        </p:nvPicPr>
        <p:blipFill>
          <a:blip r:embed="rId2"/>
          <a:stretch/>
        </p:blipFill>
        <p:spPr>
          <a:xfrm>
            <a:off x="4343400" y="1981080"/>
            <a:ext cx="451944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eestyle Script"/>
              </a:rPr>
              <a:t>The ABC’s</a:t>
            </a:r>
            <a:endParaRPr b="0" lang="en-US" sz="80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Comic Sans MS"/>
              </a:rPr>
              <a:t>Atria and Ventricles – The 4 Chambers of the Heart</a:t>
            </a:r>
            <a:endParaRPr b="0" lang="en-US" sz="27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ft Atrium delivers blood to the Left Ventricle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ft Ventricle delivers blood to the body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has thicker muscle surrounding it.</a:t>
            </a:r>
            <a:endParaRPr b="0" lang="en-US" sz="20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ight Atrium delivers blood to the Right Ventricle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ight Ventricle delivers blood to the lungs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Comic Sans MS"/>
              </a:rPr>
              <a:t>Septum</a:t>
            </a:r>
            <a:endParaRPr b="0" lang="en-US" sz="27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parates the left and right sides of the heart.</a:t>
            </a:r>
            <a:endParaRPr b="0" lang="en-US" sz="2400" spc="-1" strike="noStrike">
              <a:solidFill>
                <a:srgbClr val="ffffff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Picture1"/>
          <p:cNvPicPr/>
          <p:nvPr/>
        </p:nvPicPr>
        <p:blipFill>
          <a:blip r:embed="rId2"/>
          <a:stretch/>
        </p:blipFill>
        <p:spPr>
          <a:xfrm>
            <a:off x="1295280" y="685800"/>
            <a:ext cx="645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Freestyle Script"/>
              </a:rPr>
              <a:t>Valves</a:t>
            </a:r>
            <a:endParaRPr b="0" lang="en-US" sz="115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alves separate the atrium from its ventricle- as valves close you hear the thump sound. Valves prevent the blood from flowing backward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itral (Bicuspid) valve for left atrium and ventricle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ricuspid connects the right atrium to the right ventricle 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90720" y="586728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video.about.com/heartdisease/How-the-Valves-Work.htm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reestyle Script"/>
              </a:rPr>
              <a:t>Arteries and Veins</a:t>
            </a:r>
            <a:endParaRPr b="0" lang="en-US" sz="88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Arteries</a:t>
            </a:r>
            <a:endParaRPr b="0" lang="en-US" sz="3000" spc="-1" strike="noStrike">
              <a:solidFill>
                <a:srgbClr val="ffffff"/>
              </a:solidFill>
              <a:latin typeface="Freestyle Script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Aorta-main artery, carries blood away from the heart (largest)</a:t>
            </a:r>
            <a:endParaRPr b="0" lang="en-US" sz="2600" spc="-1" strike="noStrike">
              <a:solidFill>
                <a:srgbClr val="ffffff"/>
              </a:solidFill>
              <a:latin typeface="Freestyle Scrip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Pulmonary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rtery- takes blood to lungs for gas exchange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Comic Sans MS"/>
              </a:rPr>
              <a:t>Veins</a:t>
            </a:r>
            <a:endParaRPr b="0" lang="en-US" sz="2700" spc="-1" strike="noStrike">
              <a:solidFill>
                <a:srgbClr val="ffffff"/>
              </a:solidFill>
              <a:latin typeface="Freestyle Script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e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na cava ( superior and inferior)- largest veins that take blood to the heart</a:t>
            </a:r>
            <a:endParaRPr b="0" lang="en-US" sz="2600" spc="-1" strike="noStrike">
              <a:solidFill>
                <a:srgbClr val="ffffff"/>
              </a:solidFill>
              <a:latin typeface="Freestyle Script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uperior= top of heart, inferior= bottom of heart</a:t>
            </a:r>
            <a:endParaRPr b="0" lang="en-US" sz="2000" spc="-1" strike="noStrike">
              <a:solidFill>
                <a:srgbClr val="ffffff"/>
              </a:solidFill>
              <a:latin typeface="Freestyle Script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Pulmonary vein- take blood from lungs back to heart</a:t>
            </a:r>
            <a:endParaRPr b="0" lang="en-US" sz="2600" spc="-1" strike="noStrike">
              <a:solidFill>
                <a:srgbClr val="ffffff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eestyle Script"/>
              </a:rPr>
              <a:t>Other Important Facts</a:t>
            </a:r>
            <a:endParaRPr b="0" lang="en-US" sz="80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Sinoatrial and Atrial Ventricular nodes- the natural pace maker. They make all 4 chambers of the heart beat in syncronation.</a:t>
            </a:r>
            <a:endParaRPr b="0" lang="en-US" sz="2500" spc="-1" strike="noStrike">
              <a:solidFill>
                <a:srgbClr val="ffffff"/>
              </a:solidFill>
              <a:latin typeface="Freestyle Script"/>
            </a:endParaRPr>
          </a:p>
          <a:p>
            <a:pPr marL="335880" indent="-335880">
              <a:lnSpc>
                <a:spcPct val="150000"/>
              </a:lnSpc>
              <a:spcBef>
                <a:spcPts val="624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The blood supply to your heart is provided by blood vessels that wrap around the outside of your heart </a:t>
            </a:r>
            <a:endParaRPr b="0" lang="en-US" sz="2500" spc="-1" strike="noStrike">
              <a:solidFill>
                <a:srgbClr val="ffffff"/>
              </a:solidFill>
              <a:latin typeface="Freestyle Script"/>
            </a:endParaRPr>
          </a:p>
          <a:p>
            <a:pPr marL="335880" indent="-335880">
              <a:lnSpc>
                <a:spcPct val="15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Without nervous control, your bpms 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Comic Sans MS"/>
              </a:rPr>
              <a:t>would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 be ≈100.</a:t>
            </a:r>
            <a:endParaRPr b="0" lang="en-US" sz="2500" spc="-1" strike="noStrike">
              <a:solidFill>
                <a:srgbClr val="ffffff"/>
              </a:solidFill>
              <a:latin typeface="Freestyle Script"/>
            </a:endParaRPr>
          </a:p>
          <a:p>
            <a:pPr lvl="1" marL="727920" indent="-280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resting heart rate:  72-80 bpms (women) and 64-72 bpms (men). </a:t>
            </a:r>
            <a:endParaRPr b="0" lang="en-US" sz="2200" spc="-1" strike="noStrike">
              <a:solidFill>
                <a:srgbClr val="ffffff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1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eestyle Script"/>
              </a:rPr>
              <a:t>What are the 3 parts of the system?</a:t>
            </a:r>
            <a:endParaRPr b="0" lang="en-US" sz="60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lood Vessel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eart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52" name="Picture 5" descr="chf_circulatory_system"/>
          <p:cNvPicPr/>
          <p:nvPr/>
        </p:nvPicPr>
        <p:blipFill>
          <a:blip r:embed="rId2"/>
          <a:stretch/>
        </p:blipFill>
        <p:spPr>
          <a:xfrm>
            <a:off x="3962520" y="1523880"/>
            <a:ext cx="4809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"/>
          <p:cNvPicPr/>
          <p:nvPr/>
        </p:nvPicPr>
        <p:blipFill>
          <a:blip r:embed="rId2"/>
          <a:srcRect l="10914" t="9075" r="18180" b="0"/>
          <a:stretch/>
        </p:blipFill>
        <p:spPr>
          <a:xfrm>
            <a:off x="5410080" y="609480"/>
            <a:ext cx="2971800" cy="3276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eestyle Script"/>
              </a:rPr>
              <a:t>Blood Vessels</a:t>
            </a:r>
            <a:endParaRPr b="0" lang="en-US" sz="80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network of tube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lood to the heart to cells and back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art of a CLOSED system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PEN system:  Giant Crab, beetles, spiders, etc.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56" name="Picture 2" descr="Spotted anemone crab"/>
          <p:cNvPicPr/>
          <p:nvPr/>
        </p:nvPicPr>
        <p:blipFill>
          <a:blip r:embed="rId3"/>
          <a:srcRect l="9231" t="26228" r="13846" b="9226"/>
          <a:stretch/>
        </p:blipFill>
        <p:spPr>
          <a:xfrm>
            <a:off x="5105520" y="434340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reestyle Script"/>
              </a:rPr>
              <a:t>What are the 3 types of vessels?</a:t>
            </a:r>
            <a:endParaRPr b="0" lang="en-US" sz="88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3720" y="2743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rteries</a:t>
            </a:r>
            <a:endParaRPr b="0" lang="en-US" sz="40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apillaries</a:t>
            </a:r>
            <a:endParaRPr b="0" lang="en-US" sz="40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Veins</a:t>
            </a:r>
            <a:endParaRPr b="0" lang="en-US" sz="4000" spc="-1" strike="noStrike">
              <a:solidFill>
                <a:srgbClr val="ffffff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artery-vein"/>
          <p:cNvPicPr/>
          <p:nvPr/>
        </p:nvPicPr>
        <p:blipFill>
          <a:blip r:embed="rId2"/>
          <a:srcRect l="11110" t="0" r="4165" b="14667"/>
          <a:stretch/>
        </p:blipFill>
        <p:spPr>
          <a:xfrm>
            <a:off x="3809880" y="1905120"/>
            <a:ext cx="5148360" cy="388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eestyle Script"/>
              </a:rPr>
              <a:t>Arteries</a:t>
            </a:r>
            <a:endParaRPr b="0" lang="en-US" sz="80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137160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ad blood away from the heart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argest of the blood vessels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ery muscular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reestyle Script"/>
              </a:rPr>
              <a:t>Layers </a:t>
            </a:r>
            <a:r>
              <a:rPr b="0" lang="en-US" sz="8000" spc="-1" strike="noStrike">
                <a:solidFill>
                  <a:srgbClr val="ffffff"/>
                </a:solidFill>
                <a:latin typeface="Freestyle Script"/>
              </a:rPr>
              <a:t>of</a:t>
            </a:r>
            <a:r>
              <a:rPr b="0" lang="en-US" sz="8800" spc="-1" strike="noStrike">
                <a:solidFill>
                  <a:srgbClr val="ffffff"/>
                </a:solidFill>
                <a:latin typeface="Freestyle Script"/>
              </a:rPr>
              <a:t> Arteries</a:t>
            </a:r>
            <a:endParaRPr b="0" lang="en-US" sz="88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unica externa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uter layer (fibrous tissue)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unica media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iddle layer (smooth muscle and elastic)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unica intima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ner layer (endothelial)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64" name="Picture 4" descr="artery-vein"/>
          <p:cNvPicPr/>
          <p:nvPr/>
        </p:nvPicPr>
        <p:blipFill>
          <a:blip r:embed="rId2"/>
          <a:srcRect l="11110" t="0" r="37740" b="14667"/>
          <a:stretch/>
        </p:blipFill>
        <p:spPr>
          <a:xfrm>
            <a:off x="5181480" y="1600200"/>
            <a:ext cx="37339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eestyle Script"/>
              </a:rPr>
              <a:t>Why would arteries need to be the thickest of the vessels?</a:t>
            </a:r>
            <a:endParaRPr b="0" lang="en-US" sz="72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66" name="Picture 5" descr="circulatory_system"/>
          <p:cNvPicPr/>
          <p:nvPr/>
        </p:nvPicPr>
        <p:blipFill>
          <a:blip r:embed="rId2"/>
          <a:srcRect l="0" t="0" r="0" b="40403"/>
          <a:stretch/>
        </p:blipFill>
        <p:spPr>
          <a:xfrm>
            <a:off x="2209680" y="2244600"/>
            <a:ext cx="48006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reestyle Script"/>
              </a:rPr>
              <a:t>Capillaries</a:t>
            </a:r>
            <a:endParaRPr b="0" lang="en-US" sz="88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tremely narrow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e cell thick ONLY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e layer of endothelial cells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reates capillary beds, or network (S.A.)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eestyle Script"/>
              </a:rPr>
              <a:t>More About Capillaries</a:t>
            </a:r>
            <a:endParaRPr b="0" lang="en-US" sz="8000" spc="-1" strike="noStrike">
              <a:solidFill>
                <a:srgbClr val="ffffff"/>
              </a:solidFill>
              <a:latin typeface="Freestyle Scrip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560" y="1294920"/>
            <a:ext cx="510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st important part of system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change occurs here.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utrients &amp; Gases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nection between arteries and vein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trolled by muscular sphincters</a:t>
            </a:r>
            <a:endParaRPr b="0" lang="en-US" sz="32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ntricted = Closed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laxed = Open</a:t>
            </a:r>
            <a:endParaRPr b="0" lang="en-US" sz="2800" spc="-1" strike="noStrike">
              <a:solidFill>
                <a:srgbClr val="ffffff"/>
              </a:solidFill>
              <a:latin typeface="Freestyle Script"/>
            </a:endParaRPr>
          </a:p>
        </p:txBody>
      </p:sp>
      <p:pic>
        <p:nvPicPr>
          <p:cNvPr id="71" name="Picture 5" descr="image004"/>
          <p:cNvPicPr/>
          <p:nvPr/>
        </p:nvPicPr>
        <p:blipFill>
          <a:blip r:embed="rId2"/>
          <a:srcRect l="16669" t="5128" r="21793" b="7696"/>
          <a:stretch/>
        </p:blipFill>
        <p:spPr>
          <a:xfrm>
            <a:off x="5257800" y="1905120"/>
            <a:ext cx="3657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01:49:03Z</dcterms:created>
  <dc:creator>Amy Lynn Sanford</dc:creator>
  <dc:description/>
  <dc:language>en-US</dc:language>
  <cp:lastModifiedBy>joconnor</cp:lastModifiedBy>
  <dcterms:modified xsi:type="dcterms:W3CDTF">2010-01-12T13:43:01Z</dcterms:modified>
  <cp:revision>22</cp:revision>
  <dc:subject/>
  <dc:title>The Circulatory System</dc:title>
</cp:coreProperties>
</file>